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CAD-DD33-4F69-A177-6E488B46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C48-DCC5-4D98-BCFF-139119E6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948-1D04-42C8-887A-D3BA8ACC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D9E-546D-4341-A49B-D893AE7E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95D-0390-4614-9A25-49517B56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745-FE5F-4AC9-8B3E-E504C8F1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F06-E6D2-412F-A16B-379F53B1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849-3803-4230-9CB6-150FCBD4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106-792A-4F31-9AC0-C0FDD297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E74-3DDA-4216-9F49-24049651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A95-5365-4DCC-9CDE-8375902B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A07-D291-40CE-8D87-C1767ED7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9F6D-F69D-4B0E-A383-983600830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9386000">
            <a:off x="-761400" y="190476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19386000">
            <a:off x="-1294560" y="182844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9386000">
            <a:off x="-685080" y="91404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9386000">
            <a:off x="-2056680" y="152352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9386000">
            <a:off x="-2513880" y="137124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9386000">
            <a:off x="-3428280" y="159984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9386000">
            <a:off x="-3047400" y="83772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9386000">
            <a:off x="-4419000" y="137124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9386000">
            <a:off x="-4190400" y="68544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9386000">
            <a:off x="4115160" y="883872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9386000">
            <a:off x="3581640" y="876276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386000">
            <a:off x="4191480" y="784836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9386000">
            <a:off x="2819880" y="845784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9386000">
            <a:off x="2362680" y="830556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9386000">
            <a:off x="1448280" y="853416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9386000">
            <a:off x="1829160" y="777204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9386000">
            <a:off x="457560" y="830556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386000">
            <a:off x="686160" y="761976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9416000">
            <a:off x="-2692080" y="2514240"/>
            <a:ext cx="1043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416000">
            <a:off x="-2082600" y="2590560"/>
            <a:ext cx="1043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416000">
            <a:off x="-2311200" y="3276360"/>
            <a:ext cx="1043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9416000">
            <a:off x="-1625400" y="3352320"/>
            <a:ext cx="1043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9416000">
            <a:off x="-1015560" y="3428640"/>
            <a:ext cx="1043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9416000">
            <a:off x="-1244160" y="4114440"/>
            <a:ext cx="1043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9416000">
            <a:off x="-1244160" y="4647960"/>
            <a:ext cx="1043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9416000">
            <a:off x="-634680" y="4723920"/>
            <a:ext cx="1043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9416000">
            <a:off x="-863280" y="5409720"/>
            <a:ext cx="1043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9416000">
            <a:off x="-939600" y="5943240"/>
            <a:ext cx="1043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9416000">
            <a:off x="-1244160" y="6705360"/>
            <a:ext cx="1043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9416000">
            <a:off x="-101160" y="6400440"/>
            <a:ext cx="1043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99ffcc"/>
                </a:solidFill>
                <a:latin typeface="Verdana"/>
              </a:rPr>
              <a:t>Verboden Woord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000" spc="-1" strike="noStrike">
                <a:solidFill>
                  <a:srgbClr val="0099ff"/>
                </a:solidFill>
                <a:latin typeface="Verdana"/>
              </a:rPr>
              <a:t>Economi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8:45:18Z</dcterms:created>
  <dc:creator>blm</dc:creator>
  <dc:description/>
  <dc:language>en-US</dc:language>
  <cp:lastModifiedBy>blm</cp:lastModifiedBy>
  <dcterms:modified xsi:type="dcterms:W3CDTF">2006-04-04T08:45:35Z</dcterms:modified>
  <cp:revision>1</cp:revision>
  <dc:subject/>
  <dc:title>PowerPoint-presentatie</dc:title>
</cp:coreProperties>
</file>