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B2D-4763-485F-83A0-B57D2387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17A-D4E9-4A62-A596-C015A220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A0E-343C-4CF4-9082-D2B65566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550-B1F4-4BC5-9AD0-08067573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80F-5366-4A96-992D-0D639AE6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A2A-0C75-4761-9A20-B5494202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A05-7287-46D8-9F90-EEAFE4D6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6A4-1177-4C9B-8D1C-CD36DA5D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6C5-1F51-4364-AD7C-F1444F28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722-0DF6-427E-A4A7-A7CE098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15A-585A-459C-93E1-A4D8606C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B5C-55BD-42C4-835A-C92F6DD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E94-3E63-4E15-A73A-22549E839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1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3840" y="76320"/>
            <a:ext cx="3888720" cy="1295280"/>
            <a:chOff x="393840" y="76320"/>
            <a:chExt cx="3888720" cy="1295280"/>
          </a:xfrm>
        </p:grpSpPr>
        <p:sp>
          <p:nvSpPr>
            <p:cNvPr id="42" name=""/>
            <p:cNvSpPr/>
            <p:nvPr/>
          </p:nvSpPr>
          <p:spPr>
            <a:xfrm>
              <a:off x="1384200" y="457200"/>
              <a:ext cx="916200" cy="530280"/>
            </a:xfrm>
            <a:custGeom>
              <a:avLst/>
              <a:gdLst>
                <a:gd name="textAreaLeft" fmla="*/ 201240 w 916200"/>
                <a:gd name="textAreaRight" fmla="*/ 714960 w 9162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3000">
              <a:off x="393840" y="455760"/>
              <a:ext cx="914400" cy="53028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2374920" y="457200"/>
              <a:ext cx="915840" cy="530280"/>
            </a:xfrm>
            <a:custGeom>
              <a:avLst/>
              <a:gdLst>
                <a:gd name="textAreaLeft" fmla="*/ 201240 w 915840"/>
                <a:gd name="textAreaRight" fmla="*/ 714600 w 91584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10832400">
              <a:off x="3365640" y="457200"/>
              <a:ext cx="914400" cy="533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7360 h 533520"/>
                <a:gd name="textAreaBottom" fmla="*/ 4161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440" y="990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12800" y="990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03520" y="990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94240" y="990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59240" y="763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ka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93840" y="1828800"/>
            <a:ext cx="3888720" cy="1295280"/>
            <a:chOff x="393840" y="1828800"/>
            <a:chExt cx="3888720" cy="1295280"/>
          </a:xfrm>
        </p:grpSpPr>
        <p:sp>
          <p:nvSpPr>
            <p:cNvPr id="52" name=""/>
            <p:cNvSpPr/>
            <p:nvPr/>
          </p:nvSpPr>
          <p:spPr>
            <a:xfrm>
              <a:off x="1384200" y="2209680"/>
              <a:ext cx="916200" cy="530280"/>
            </a:xfrm>
            <a:custGeom>
              <a:avLst/>
              <a:gdLst>
                <a:gd name="textAreaLeft" fmla="*/ 201240 w 916200"/>
                <a:gd name="textAreaRight" fmla="*/ 714960 w 9162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3000">
              <a:off x="393840" y="2208240"/>
              <a:ext cx="914400" cy="53028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374920" y="2209680"/>
              <a:ext cx="915840" cy="530280"/>
            </a:xfrm>
            <a:custGeom>
              <a:avLst/>
              <a:gdLst>
                <a:gd name="textAreaLeft" fmla="*/ 201240 w 915840"/>
                <a:gd name="textAreaRight" fmla="*/ 714600 w 91584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0832400">
              <a:off x="3365640" y="2209680"/>
              <a:ext cx="914400" cy="533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7360 h 533520"/>
                <a:gd name="textAreaBottom" fmla="*/ 4161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2440" y="274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12800" y="274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3520" y="274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94240" y="274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9240" y="18288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ka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93840" y="3429000"/>
            <a:ext cx="3888720" cy="1295280"/>
            <a:chOff x="393840" y="3429000"/>
            <a:chExt cx="3888720" cy="1295280"/>
          </a:xfrm>
        </p:grpSpPr>
        <p:sp>
          <p:nvSpPr>
            <p:cNvPr id="62" name=""/>
            <p:cNvSpPr/>
            <p:nvPr/>
          </p:nvSpPr>
          <p:spPr>
            <a:xfrm>
              <a:off x="1384200" y="3809880"/>
              <a:ext cx="916200" cy="530280"/>
            </a:xfrm>
            <a:custGeom>
              <a:avLst/>
              <a:gdLst>
                <a:gd name="textAreaLeft" fmla="*/ 201240 w 916200"/>
                <a:gd name="textAreaRight" fmla="*/ 714960 w 9162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3000">
              <a:off x="393840" y="3808440"/>
              <a:ext cx="914400" cy="53028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374920" y="3809880"/>
              <a:ext cx="915840" cy="530280"/>
            </a:xfrm>
            <a:custGeom>
              <a:avLst/>
              <a:gdLst>
                <a:gd name="textAreaLeft" fmla="*/ 201240 w 915840"/>
                <a:gd name="textAreaRight" fmla="*/ 714600 w 91584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10832400">
              <a:off x="3365640" y="3809880"/>
              <a:ext cx="914400" cy="533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7360 h 533520"/>
                <a:gd name="textAreaBottom" fmla="*/ 4161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2440" y="43434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2800" y="43434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03520" y="43434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94240" y="43434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59240" y="34290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ka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93840" y="5105520"/>
            <a:ext cx="3888720" cy="1295280"/>
            <a:chOff x="393840" y="5105520"/>
            <a:chExt cx="3888720" cy="1295280"/>
          </a:xfrm>
        </p:grpSpPr>
        <p:sp>
          <p:nvSpPr>
            <p:cNvPr id="72" name=""/>
            <p:cNvSpPr/>
            <p:nvPr/>
          </p:nvSpPr>
          <p:spPr>
            <a:xfrm>
              <a:off x="1384200" y="5486400"/>
              <a:ext cx="916200" cy="530280"/>
            </a:xfrm>
            <a:custGeom>
              <a:avLst/>
              <a:gdLst>
                <a:gd name="textAreaLeft" fmla="*/ 201240 w 916200"/>
                <a:gd name="textAreaRight" fmla="*/ 714960 w 9162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3000">
              <a:off x="393840" y="5484960"/>
              <a:ext cx="914400" cy="53028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374920" y="5486400"/>
              <a:ext cx="915840" cy="530280"/>
            </a:xfrm>
            <a:custGeom>
              <a:avLst/>
              <a:gdLst>
                <a:gd name="textAreaLeft" fmla="*/ 201240 w 915840"/>
                <a:gd name="textAreaRight" fmla="*/ 714600 w 91584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 rot="10832400">
              <a:off x="3365640" y="5486400"/>
              <a:ext cx="914400" cy="533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7360 h 533520"/>
                <a:gd name="textAreaBottom" fmla="*/ 4161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440" y="60199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2800" y="60199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03520" y="60199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94240" y="60199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59240" y="5105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ka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84880" y="76320"/>
            <a:ext cx="3888720" cy="1295280"/>
            <a:chOff x="5384880" y="76320"/>
            <a:chExt cx="3888720" cy="1295280"/>
          </a:xfrm>
        </p:grpSpPr>
        <p:sp>
          <p:nvSpPr>
            <p:cNvPr id="82" name=""/>
            <p:cNvSpPr/>
            <p:nvPr/>
          </p:nvSpPr>
          <p:spPr>
            <a:xfrm>
              <a:off x="6375240" y="457200"/>
              <a:ext cx="916200" cy="530280"/>
            </a:xfrm>
            <a:custGeom>
              <a:avLst/>
              <a:gdLst>
                <a:gd name="textAreaLeft" fmla="*/ 201240 w 916200"/>
                <a:gd name="textAreaRight" fmla="*/ 714960 w 9162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3000">
              <a:off x="5384880" y="455760"/>
              <a:ext cx="914400" cy="53028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365960" y="457200"/>
              <a:ext cx="915840" cy="530280"/>
            </a:xfrm>
            <a:custGeom>
              <a:avLst/>
              <a:gdLst>
                <a:gd name="textAreaLeft" fmla="*/ 201240 w 915840"/>
                <a:gd name="textAreaRight" fmla="*/ 714600 w 91584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 rot="10832400">
              <a:off x="8356680" y="457200"/>
              <a:ext cx="914400" cy="533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7360 h 533520"/>
                <a:gd name="textAreaBottom" fmla="*/ 4161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13480" y="990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03840" y="990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990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85280" y="990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50280" y="763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ka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384880" y="1828800"/>
            <a:ext cx="3888720" cy="1295280"/>
            <a:chOff x="5384880" y="1828800"/>
            <a:chExt cx="3888720" cy="1295280"/>
          </a:xfrm>
        </p:grpSpPr>
        <p:sp>
          <p:nvSpPr>
            <p:cNvPr id="92" name=""/>
            <p:cNvSpPr/>
            <p:nvPr/>
          </p:nvSpPr>
          <p:spPr>
            <a:xfrm>
              <a:off x="6375240" y="2209680"/>
              <a:ext cx="916200" cy="530280"/>
            </a:xfrm>
            <a:custGeom>
              <a:avLst/>
              <a:gdLst>
                <a:gd name="textAreaLeft" fmla="*/ 201240 w 916200"/>
                <a:gd name="textAreaRight" fmla="*/ 714960 w 9162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00">
              <a:off x="5384880" y="2208240"/>
              <a:ext cx="914400" cy="53028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7365960" y="2209680"/>
              <a:ext cx="915840" cy="530280"/>
            </a:xfrm>
            <a:custGeom>
              <a:avLst/>
              <a:gdLst>
                <a:gd name="textAreaLeft" fmla="*/ 201240 w 915840"/>
                <a:gd name="textAreaRight" fmla="*/ 714600 w 91584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0832400">
              <a:off x="8356680" y="2209680"/>
              <a:ext cx="914400" cy="533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7360 h 533520"/>
                <a:gd name="textAreaBottom" fmla="*/ 4161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13480" y="274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03840" y="274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94560" y="274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85280" y="274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50280" y="18288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ka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384880" y="3429000"/>
            <a:ext cx="3888720" cy="1295280"/>
            <a:chOff x="5384880" y="3429000"/>
            <a:chExt cx="3888720" cy="1295280"/>
          </a:xfrm>
        </p:grpSpPr>
        <p:sp>
          <p:nvSpPr>
            <p:cNvPr id="102" name=""/>
            <p:cNvSpPr/>
            <p:nvPr/>
          </p:nvSpPr>
          <p:spPr>
            <a:xfrm>
              <a:off x="6375240" y="3809880"/>
              <a:ext cx="916200" cy="530280"/>
            </a:xfrm>
            <a:custGeom>
              <a:avLst/>
              <a:gdLst>
                <a:gd name="textAreaLeft" fmla="*/ 201240 w 916200"/>
                <a:gd name="textAreaRight" fmla="*/ 714960 w 9162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3000">
              <a:off x="5384880" y="3808440"/>
              <a:ext cx="914400" cy="53028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365960" y="3809880"/>
              <a:ext cx="915840" cy="530280"/>
            </a:xfrm>
            <a:custGeom>
              <a:avLst/>
              <a:gdLst>
                <a:gd name="textAreaLeft" fmla="*/ 201240 w 915840"/>
                <a:gd name="textAreaRight" fmla="*/ 714600 w 91584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10832400">
              <a:off x="8356680" y="3809880"/>
              <a:ext cx="914400" cy="533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7360 h 533520"/>
                <a:gd name="textAreaBottom" fmla="*/ 4161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3434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03840" y="43434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94560" y="43434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5280" y="43434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50280" y="34290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ka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384880" y="5105520"/>
            <a:ext cx="3888720" cy="1295280"/>
            <a:chOff x="5384880" y="5105520"/>
            <a:chExt cx="3888720" cy="1295280"/>
          </a:xfrm>
        </p:grpSpPr>
        <p:sp>
          <p:nvSpPr>
            <p:cNvPr id="112" name=""/>
            <p:cNvSpPr/>
            <p:nvPr/>
          </p:nvSpPr>
          <p:spPr>
            <a:xfrm>
              <a:off x="6375240" y="5486400"/>
              <a:ext cx="916200" cy="530280"/>
            </a:xfrm>
            <a:custGeom>
              <a:avLst/>
              <a:gdLst>
                <a:gd name="textAreaLeft" fmla="*/ 201240 w 916200"/>
                <a:gd name="textAreaRight" fmla="*/ 714960 w 9162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000">
              <a:off x="5384880" y="5484960"/>
              <a:ext cx="914400" cy="53028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365960" y="5486400"/>
              <a:ext cx="915840" cy="530280"/>
            </a:xfrm>
            <a:custGeom>
              <a:avLst/>
              <a:gdLst>
                <a:gd name="textAreaLeft" fmla="*/ 201240 w 915840"/>
                <a:gd name="textAreaRight" fmla="*/ 714600 w 915840"/>
                <a:gd name="textAreaTop" fmla="*/ 116640 h 530280"/>
                <a:gd name="textAreaBottom" fmla="*/ 41364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 rot="10832400">
              <a:off x="8356680" y="5486400"/>
              <a:ext cx="914400" cy="5335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17360 h 533520"/>
                <a:gd name="textAreaBottom" fmla="*/ 4161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13480" y="60199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03840" y="60199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4560" y="60199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85280" y="60199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50280" y="5105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ka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07:29:58Z</dcterms:created>
  <dc:creator>blm</dc:creator>
  <dc:description/>
  <dc:language>en-US</dc:language>
  <cp:lastModifiedBy>blm</cp:lastModifiedBy>
  <dcterms:modified xsi:type="dcterms:W3CDTF">2007-05-31T07:30:17Z</dcterms:modified>
  <cp:revision>1</cp:revision>
  <dc:subject/>
  <dc:title>PowerPoint-presentatie</dc:title>
</cp:coreProperties>
</file>