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5A23-9D4C-4400-8DAF-8C4229641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31CA-996C-4268-B24B-CF945C106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B70F-C41E-4DBD-9AEF-EEA31F7A4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7D7D-0ADC-49EB-961C-1306E6BA4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B8A9-E9AE-4786-84CD-B2F93C640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4ED5-8CF0-4D76-BFD6-34D115DA2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9CEE-2AD4-4B76-854E-05FDF7F6A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9F29-2871-4733-819F-6B680CA78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A8FB-44CA-4427-98CA-5C1A4F2EB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F718-9F3F-40D9-867E-D17D237E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DFAF-F2E6-4BCC-95D3-2E310E32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B25D-CDA3-4558-B0B2-F750B803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6000"/>
          </a:bodyPr>
          <a:p>
            <a:pPr marL="344520" indent="-34452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6640" indent="-28800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9120" indent="-22860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9200" indent="-23004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069280" indent="-22968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069280" indent="-22968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069280" indent="-22968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7CEEAA2F-DCA3-40A1-B45E-E8619B97D1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98480" y="30240"/>
            <a:ext cx="6559560" cy="6804000"/>
            <a:chOff x="1698480" y="30240"/>
            <a:chExt cx="6559560" cy="6804000"/>
          </a:xfrm>
        </p:grpSpPr>
        <p:sp>
          <p:nvSpPr>
            <p:cNvPr id="42" name=""/>
            <p:cNvSpPr/>
            <p:nvPr/>
          </p:nvSpPr>
          <p:spPr>
            <a:xfrm>
              <a:off x="1698480" y="30240"/>
              <a:ext cx="6559560" cy="6804000"/>
            </a:xfrm>
            <a:prstGeom prst="rect">
              <a:avLst/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rot="19416000">
              <a:off x="1477440" y="1631880"/>
              <a:ext cx="4794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576360"/>
                  <a:tab algn="l" pos="1152360"/>
                  <a:tab algn="l" pos="1728720"/>
                  <a:tab algn="l" pos="2305080"/>
                  <a:tab algn="l" pos="2881440"/>
                  <a:tab algn="l" pos="3457440"/>
                  <a:tab algn="l" pos="4033800"/>
                  <a:tab algn="l" pos="4610160"/>
                  <a:tab algn="l" pos="5186520"/>
                  <a:tab algn="l" pos="5762520"/>
                  <a:tab algn="l" pos="6338880"/>
                  <a:tab algn="l" pos="6915240"/>
                  <a:tab algn="l" pos="7491240"/>
                  <a:tab algn="l" pos="8067600"/>
                  <a:tab algn="l" pos="8643960"/>
                  <a:tab algn="l" pos="9220320"/>
                  <a:tab algn="l" pos="9796320"/>
                  <a:tab algn="l" pos="10372680"/>
                  <a:tab algn="l" pos="10949040"/>
                </a:tabLst>
              </a:pPr>
              <a:r>
                <a:rPr b="0" lang="nl-NL" sz="600" spc="-1" strike="noStrike">
                  <a:solidFill>
                    <a:srgbClr val="00cc99"/>
                  </a:solidFill>
                  <a:latin typeface="Verdana"/>
                </a:rPr>
                <a:t>Triviant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Economie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cc99"/>
                  </a:solidFill>
                  <a:latin typeface="Verdana"/>
                </a:rPr>
                <a:t>Triviant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Economie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cc99"/>
                  </a:solidFill>
                  <a:latin typeface="Verdana"/>
                </a:rPr>
                <a:t>Triviant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Economie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cc99"/>
                  </a:solidFill>
                  <a:latin typeface="Verdana"/>
                </a:rPr>
                <a:t>Triviant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Economie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cc99"/>
                  </a:solidFill>
                  <a:latin typeface="Verdana"/>
                </a:rPr>
                <a:t>Triviant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Economie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cc99"/>
                  </a:solidFill>
                  <a:latin typeface="Verdana"/>
                </a:rPr>
                <a:t>Triviant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Economie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cc99"/>
                  </a:solidFill>
                  <a:latin typeface="Verdana"/>
                </a:rPr>
                <a:t>Trivia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rot="19416000">
              <a:off x="1722240" y="274680"/>
              <a:ext cx="631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576360"/>
                  <a:tab algn="l" pos="1152360"/>
                  <a:tab algn="l" pos="1728720"/>
                  <a:tab algn="l" pos="2305080"/>
                  <a:tab algn="l" pos="2881440"/>
                  <a:tab algn="l" pos="3457440"/>
                  <a:tab algn="l" pos="4033800"/>
                  <a:tab algn="l" pos="4610160"/>
                  <a:tab algn="l" pos="5186520"/>
                  <a:tab algn="l" pos="5762520"/>
                  <a:tab algn="l" pos="6338880"/>
                  <a:tab algn="l" pos="6915240"/>
                  <a:tab algn="l" pos="7491240"/>
                  <a:tab algn="l" pos="8067600"/>
                  <a:tab algn="l" pos="8643960"/>
                  <a:tab algn="l" pos="9220320"/>
                  <a:tab algn="l" pos="9796320"/>
                  <a:tab algn="l" pos="10372680"/>
                  <a:tab algn="l" pos="10949040"/>
                </a:tabLst>
              </a:pP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onomie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 • </a:t>
              </a:r>
              <a:r>
                <a:rPr b="0" lang="nl-NL" sz="600" spc="-1" strike="noStrike">
                  <a:solidFill>
                    <a:srgbClr val="00cc99"/>
                  </a:solidFill>
                  <a:latin typeface="Verdana"/>
                </a:rPr>
                <a:t>Triviant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rot="19416000">
              <a:off x="1558440" y="1315800"/>
              <a:ext cx="3650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576360"/>
                  <a:tab algn="l" pos="1152360"/>
                  <a:tab algn="l" pos="1728720"/>
                  <a:tab algn="l" pos="2305080"/>
                  <a:tab algn="l" pos="2881440"/>
                  <a:tab algn="l" pos="3457440"/>
                  <a:tab algn="l" pos="4033800"/>
                  <a:tab algn="l" pos="4610160"/>
                  <a:tab algn="l" pos="5186520"/>
                  <a:tab algn="l" pos="5762520"/>
                  <a:tab algn="l" pos="6338880"/>
                  <a:tab algn="l" pos="6915240"/>
                  <a:tab algn="l" pos="7491240"/>
                  <a:tab algn="l" pos="8067600"/>
                  <a:tab algn="l" pos="8643960"/>
                  <a:tab algn="l" pos="9220320"/>
                  <a:tab algn="l" pos="9796320"/>
                  <a:tab algn="l" pos="10372680"/>
                  <a:tab algn="l" pos="10949040"/>
                </a:tabLst>
              </a:pPr>
              <a:r>
                <a:rPr b="0" lang="nl-NL" sz="600" spc="-1" strike="noStrike">
                  <a:solidFill>
                    <a:srgbClr val="00cc99"/>
                  </a:solidFill>
                  <a:latin typeface="Verdana"/>
                </a:rPr>
                <a:t>iviant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Economie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cc99"/>
                  </a:solidFill>
                  <a:latin typeface="Verdana"/>
                </a:rPr>
                <a:t>Triviant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Economie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cc99"/>
                  </a:solidFill>
                  <a:latin typeface="Verdana"/>
                </a:rPr>
                <a:t>Triviant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Economie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cc99"/>
                  </a:solidFill>
                  <a:latin typeface="Verdana"/>
                </a:rPr>
                <a:t>Triviant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Economie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cc99"/>
                  </a:solidFill>
                  <a:latin typeface="Verdana"/>
                </a:rPr>
                <a:t>Triviant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Economi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rot="19416000">
              <a:off x="1629000" y="932040"/>
              <a:ext cx="2614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576360"/>
                  <a:tab algn="l" pos="1152360"/>
                  <a:tab algn="l" pos="1728720"/>
                  <a:tab algn="l" pos="2305080"/>
                  <a:tab algn="l" pos="2881440"/>
                  <a:tab algn="l" pos="3457440"/>
                  <a:tab algn="l" pos="4033800"/>
                  <a:tab algn="l" pos="4610160"/>
                  <a:tab algn="l" pos="5186520"/>
                  <a:tab algn="l" pos="5762520"/>
                  <a:tab algn="l" pos="6338880"/>
                  <a:tab algn="l" pos="6915240"/>
                  <a:tab algn="l" pos="7491240"/>
                  <a:tab algn="l" pos="8067600"/>
                  <a:tab algn="l" pos="8643960"/>
                  <a:tab algn="l" pos="9220320"/>
                  <a:tab algn="l" pos="9796320"/>
                  <a:tab algn="l" pos="10372680"/>
                  <a:tab algn="l" pos="10949040"/>
                </a:tabLst>
              </a:pP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Economie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cc99"/>
                  </a:solidFill>
                  <a:latin typeface="Verdana"/>
                </a:rPr>
                <a:t>Triviant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Economie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cc99"/>
                  </a:solidFill>
                  <a:latin typeface="Verdana"/>
                </a:rPr>
                <a:t>Triviant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Economie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cc99"/>
                  </a:solidFill>
                  <a:latin typeface="Verdana"/>
                </a:rPr>
                <a:t>Triviant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Econo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9416000">
              <a:off x="1631520" y="595080"/>
              <a:ext cx="154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576360"/>
                  <a:tab algn="l" pos="1152360"/>
                  <a:tab algn="l" pos="1728720"/>
                  <a:tab algn="l" pos="2305080"/>
                  <a:tab algn="l" pos="2881440"/>
                  <a:tab algn="l" pos="3457440"/>
                  <a:tab algn="l" pos="4033800"/>
                  <a:tab algn="l" pos="4610160"/>
                  <a:tab algn="l" pos="5186520"/>
                  <a:tab algn="l" pos="5762520"/>
                  <a:tab algn="l" pos="6338880"/>
                  <a:tab algn="l" pos="6915240"/>
                  <a:tab algn="l" pos="7491240"/>
                  <a:tab algn="l" pos="8067600"/>
                  <a:tab algn="l" pos="8643960"/>
                  <a:tab algn="l" pos="9220320"/>
                  <a:tab algn="l" pos="9796320"/>
                  <a:tab algn="l" pos="10372680"/>
                  <a:tab algn="l" pos="10949040"/>
                </a:tabLst>
              </a:pPr>
              <a:r>
                <a:rPr b="0" lang="nl-NL" sz="600" spc="-1" strike="noStrike">
                  <a:solidFill>
                    <a:srgbClr val="00cc99"/>
                  </a:solidFill>
                  <a:latin typeface="Verdana"/>
                </a:rPr>
                <a:t>riviant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Economie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cc99"/>
                  </a:solidFill>
                  <a:latin typeface="Verdana"/>
                </a:rPr>
                <a:t>Triviant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Economie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cc99"/>
                  </a:solidFill>
                  <a:latin typeface="Verdana"/>
                </a:rPr>
                <a:t>T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rot="19416000">
              <a:off x="1416240" y="2395440"/>
              <a:ext cx="69796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576360"/>
                  <a:tab algn="l" pos="1152360"/>
                  <a:tab algn="l" pos="1728720"/>
                  <a:tab algn="l" pos="2305080"/>
                  <a:tab algn="l" pos="2881440"/>
                  <a:tab algn="l" pos="3457440"/>
                  <a:tab algn="l" pos="4033800"/>
                  <a:tab algn="l" pos="4610160"/>
                  <a:tab algn="l" pos="5186520"/>
                  <a:tab algn="l" pos="5762520"/>
                  <a:tab algn="l" pos="6338880"/>
                  <a:tab algn="l" pos="6915240"/>
                  <a:tab algn="l" pos="7491240"/>
                  <a:tab algn="l" pos="8067600"/>
                  <a:tab algn="l" pos="8643960"/>
                  <a:tab algn="l" pos="9220320"/>
                  <a:tab algn="l" pos="9796320"/>
                  <a:tab algn="l" pos="10372680"/>
                  <a:tab algn="l" pos="10949040"/>
                </a:tabLst>
              </a:pPr>
              <a:r>
                <a:rPr b="0" lang="nl-NL" sz="600" spc="-1" strike="noStrike">
                  <a:solidFill>
                    <a:srgbClr val="00cc99"/>
                  </a:solidFill>
                  <a:latin typeface="Verdana"/>
                </a:rPr>
                <a:t>Triviant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Economie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cc99"/>
                  </a:solidFill>
                  <a:latin typeface="Verdana"/>
                </a:rPr>
                <a:t>Triviant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Economie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cc99"/>
                  </a:solidFill>
                  <a:latin typeface="Verdana"/>
                </a:rPr>
                <a:t>Triviant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Economie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cc99"/>
                  </a:solidFill>
                  <a:latin typeface="Verdana"/>
                </a:rPr>
                <a:t>Triviant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Economie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cc99"/>
                  </a:solidFill>
                  <a:latin typeface="Verdana"/>
                </a:rPr>
                <a:t>Triviant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Economie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cc99"/>
                  </a:solidFill>
                  <a:latin typeface="Verdana"/>
                </a:rPr>
                <a:t>Triviant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Economie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cc99"/>
                  </a:solidFill>
                  <a:latin typeface="Verdana"/>
                </a:rPr>
                <a:t>Triviant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Economie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cc99"/>
                  </a:solidFill>
                  <a:latin typeface="Verdana"/>
                </a:rPr>
                <a:t>Triviant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Economie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cc99"/>
                  </a:solidFill>
                  <a:latin typeface="Verdana"/>
                </a:rPr>
                <a:t>Triviant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Economie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cc99"/>
                  </a:solidFill>
                  <a:latin typeface="Verdana"/>
                </a:rPr>
                <a:t>Trivi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9416000">
              <a:off x="1468080" y="1990800"/>
              <a:ext cx="5883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576360"/>
                  <a:tab algn="l" pos="1152360"/>
                  <a:tab algn="l" pos="1728720"/>
                  <a:tab algn="l" pos="2305080"/>
                  <a:tab algn="l" pos="2881440"/>
                  <a:tab algn="l" pos="3457440"/>
                  <a:tab algn="l" pos="4033800"/>
                  <a:tab algn="l" pos="4610160"/>
                  <a:tab algn="l" pos="5186520"/>
                  <a:tab algn="l" pos="5762520"/>
                  <a:tab algn="l" pos="6338880"/>
                  <a:tab algn="l" pos="6915240"/>
                  <a:tab algn="l" pos="7491240"/>
                  <a:tab algn="l" pos="8067600"/>
                  <a:tab algn="l" pos="8643960"/>
                  <a:tab algn="l" pos="9220320"/>
                  <a:tab algn="l" pos="9796320"/>
                  <a:tab algn="l" pos="10372680"/>
                  <a:tab algn="l" pos="10949040"/>
                </a:tabLst>
              </a:pP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Economie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cc99"/>
                  </a:solidFill>
                  <a:latin typeface="Verdana"/>
                </a:rPr>
                <a:t>Triviant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Economie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cc99"/>
                  </a:solidFill>
                  <a:latin typeface="Verdana"/>
                </a:rPr>
                <a:t>Triviant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Economie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cc99"/>
                  </a:solidFill>
                  <a:latin typeface="Verdana"/>
                </a:rPr>
                <a:t>Triviant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Economie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cc99"/>
                  </a:solidFill>
                  <a:latin typeface="Verdana"/>
                </a:rPr>
                <a:t>Triviant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Economie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cc99"/>
                  </a:solidFill>
                  <a:latin typeface="Verdana"/>
                </a:rPr>
                <a:t>Triviant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Economie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cc99"/>
                  </a:solidFill>
                  <a:latin typeface="Verdana"/>
                </a:rPr>
                <a:t>Triviant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Economie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cc99"/>
                  </a:solidFill>
                  <a:latin typeface="Verdana"/>
                </a:rPr>
                <a:t>Triviant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Economie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cc99"/>
                  </a:solidFill>
                  <a:latin typeface="Verdana"/>
                </a:rPr>
                <a:t>Trivi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rot="19416000">
              <a:off x="1410480" y="3171960"/>
              <a:ext cx="70696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576360"/>
                  <a:tab algn="l" pos="1152360"/>
                  <a:tab algn="l" pos="1728720"/>
                  <a:tab algn="l" pos="2305080"/>
                  <a:tab algn="l" pos="2881440"/>
                  <a:tab algn="l" pos="3457440"/>
                  <a:tab algn="l" pos="4033800"/>
                  <a:tab algn="l" pos="4610160"/>
                  <a:tab algn="l" pos="5186520"/>
                  <a:tab algn="l" pos="5762520"/>
                  <a:tab algn="l" pos="6338880"/>
                  <a:tab algn="l" pos="6915240"/>
                  <a:tab algn="l" pos="7491240"/>
                  <a:tab algn="l" pos="8067600"/>
                  <a:tab algn="l" pos="8643960"/>
                  <a:tab algn="l" pos="9220320"/>
                  <a:tab algn="l" pos="9796320"/>
                  <a:tab algn="l" pos="10372680"/>
                  <a:tab algn="l" pos="10949040"/>
                </a:tabLst>
              </a:pPr>
              <a:r>
                <a:rPr b="0" lang="nl-NL" sz="600" spc="-1" strike="noStrike">
                  <a:solidFill>
                    <a:srgbClr val="00cc99"/>
                  </a:solidFill>
                  <a:latin typeface="Verdana"/>
                </a:rPr>
                <a:t>Triviant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Economie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cc99"/>
                  </a:solidFill>
                  <a:latin typeface="Verdana"/>
                </a:rPr>
                <a:t>Triviant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Economie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cc99"/>
                  </a:solidFill>
                  <a:latin typeface="Verdana"/>
                </a:rPr>
                <a:t>Triviant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Economie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cc99"/>
                  </a:solidFill>
                  <a:latin typeface="Verdana"/>
                </a:rPr>
                <a:t>Triviant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Economie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cc99"/>
                  </a:solidFill>
                  <a:latin typeface="Verdana"/>
                </a:rPr>
                <a:t>Triviant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Economie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cc99"/>
                  </a:solidFill>
                  <a:latin typeface="Verdana"/>
                </a:rPr>
                <a:t>Triviant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Economie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cc99"/>
                  </a:solidFill>
                  <a:latin typeface="Verdana"/>
                </a:rPr>
                <a:t>Triviant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Economie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cc99"/>
                  </a:solidFill>
                  <a:latin typeface="Verdana"/>
                </a:rPr>
                <a:t>Triviant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Economie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cc99"/>
                  </a:solidFill>
                  <a:latin typeface="Verdana"/>
                </a:rPr>
                <a:t>Triviant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Economie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cc99"/>
                  </a:solidFill>
                  <a:latin typeface="Verdana"/>
                </a:rPr>
                <a:t>Trivia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rot="19416000">
              <a:off x="1416960" y="4041360"/>
              <a:ext cx="7093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576360"/>
                  <a:tab algn="l" pos="1152360"/>
                  <a:tab algn="l" pos="1728720"/>
                  <a:tab algn="l" pos="2305080"/>
                  <a:tab algn="l" pos="2881440"/>
                  <a:tab algn="l" pos="3457440"/>
                  <a:tab algn="l" pos="4033800"/>
                  <a:tab algn="l" pos="4610160"/>
                  <a:tab algn="l" pos="5186520"/>
                  <a:tab algn="l" pos="5762520"/>
                  <a:tab algn="l" pos="6338880"/>
                  <a:tab algn="l" pos="6915240"/>
                  <a:tab algn="l" pos="7491240"/>
                  <a:tab algn="l" pos="8067600"/>
                  <a:tab algn="l" pos="8643960"/>
                  <a:tab algn="l" pos="9220320"/>
                  <a:tab algn="l" pos="9796320"/>
                  <a:tab algn="l" pos="10372680"/>
                  <a:tab algn="l" pos="10949040"/>
                </a:tabLst>
              </a:pP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Economie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cc99"/>
                  </a:solidFill>
                  <a:latin typeface="Verdana"/>
                </a:rPr>
                <a:t>Triviant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Economie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cc99"/>
                  </a:solidFill>
                  <a:latin typeface="Verdana"/>
                </a:rPr>
                <a:t>Triviant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Economie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cc99"/>
                  </a:solidFill>
                  <a:latin typeface="Verdana"/>
                </a:rPr>
                <a:t>Triviant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Economie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cc99"/>
                  </a:solidFill>
                  <a:latin typeface="Verdana"/>
                </a:rPr>
                <a:t>Triviant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Economie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cc99"/>
                  </a:solidFill>
                  <a:latin typeface="Verdana"/>
                </a:rPr>
                <a:t>Triviant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Economie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cc99"/>
                  </a:solidFill>
                  <a:latin typeface="Verdana"/>
                </a:rPr>
                <a:t>Triviant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Economie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cc99"/>
                  </a:solidFill>
                  <a:latin typeface="Verdana"/>
                </a:rPr>
                <a:t>Triviant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Economie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cc99"/>
                  </a:solidFill>
                  <a:latin typeface="Verdana"/>
                </a:rPr>
                <a:t>Triviant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Economie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cc99"/>
                  </a:solidFill>
                  <a:latin typeface="Verdana"/>
                </a:rPr>
                <a:t>Triviant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Econ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9416000">
              <a:off x="2312640" y="4633920"/>
              <a:ext cx="6221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576360"/>
                  <a:tab algn="l" pos="1152360"/>
                  <a:tab algn="l" pos="1728720"/>
                  <a:tab algn="l" pos="2305080"/>
                  <a:tab algn="l" pos="2881440"/>
                  <a:tab algn="l" pos="3457440"/>
                  <a:tab algn="l" pos="4033800"/>
                  <a:tab algn="l" pos="4610160"/>
                  <a:tab algn="l" pos="5186520"/>
                  <a:tab algn="l" pos="5762520"/>
                  <a:tab algn="l" pos="6338880"/>
                  <a:tab algn="l" pos="6915240"/>
                  <a:tab algn="l" pos="7491240"/>
                  <a:tab algn="l" pos="8067600"/>
                  <a:tab algn="l" pos="8643960"/>
                  <a:tab algn="l" pos="9220320"/>
                  <a:tab algn="l" pos="9796320"/>
                  <a:tab algn="l" pos="10372680"/>
                  <a:tab algn="l" pos="10949040"/>
                </a:tabLst>
              </a:pPr>
              <a:r>
                <a:rPr b="0" lang="nl-NL" sz="600" spc="-1" strike="noStrike">
                  <a:solidFill>
                    <a:srgbClr val="00cc99"/>
                  </a:solidFill>
                  <a:latin typeface="Verdana"/>
                </a:rPr>
                <a:t>riviant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Economie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cc99"/>
                  </a:solidFill>
                  <a:latin typeface="Verdana"/>
                </a:rPr>
                <a:t>Triviant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Economie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cc99"/>
                  </a:solidFill>
                  <a:latin typeface="Verdana"/>
                </a:rPr>
                <a:t>Triviant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Economie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cc99"/>
                  </a:solidFill>
                  <a:latin typeface="Verdana"/>
                </a:rPr>
                <a:t>Triviant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Economie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cc99"/>
                  </a:solidFill>
                  <a:latin typeface="Verdana"/>
                </a:rPr>
                <a:t>Triviant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Economie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cc99"/>
                  </a:solidFill>
                  <a:latin typeface="Verdana"/>
                </a:rPr>
                <a:t>Triviant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Economie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cc99"/>
                  </a:solidFill>
                  <a:latin typeface="Verdana"/>
                </a:rPr>
                <a:t>Triviant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Economie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cc99"/>
                  </a:solidFill>
                  <a:latin typeface="Verdana"/>
                </a:rPr>
                <a:t>Triviant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Economie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cc99"/>
                  </a:solidFill>
                  <a:latin typeface="Verdana"/>
                </a:rPr>
                <a:t>Trivi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rot="19416000">
              <a:off x="3450960" y="5063760"/>
              <a:ext cx="4972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576360"/>
                  <a:tab algn="l" pos="1152360"/>
                  <a:tab algn="l" pos="1728720"/>
                  <a:tab algn="l" pos="2305080"/>
                  <a:tab algn="l" pos="2881440"/>
                  <a:tab algn="l" pos="3457440"/>
                  <a:tab algn="l" pos="4033800"/>
                  <a:tab algn="l" pos="4610160"/>
                  <a:tab algn="l" pos="5186520"/>
                  <a:tab algn="l" pos="5762520"/>
                  <a:tab algn="l" pos="6338880"/>
                  <a:tab algn="l" pos="6915240"/>
                  <a:tab algn="l" pos="7491240"/>
                  <a:tab algn="l" pos="8067600"/>
                  <a:tab algn="l" pos="8643960"/>
                  <a:tab algn="l" pos="9220320"/>
                  <a:tab algn="l" pos="9796320"/>
                  <a:tab algn="l" pos="10372680"/>
                  <a:tab algn="l" pos="10949040"/>
                </a:tabLst>
              </a:pP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Economie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cc99"/>
                  </a:solidFill>
                  <a:latin typeface="Verdana"/>
                </a:rPr>
                <a:t>Triviant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Economie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cc99"/>
                  </a:solidFill>
                  <a:latin typeface="Verdana"/>
                </a:rPr>
                <a:t>Triviant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Economie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cc99"/>
                  </a:solidFill>
                  <a:latin typeface="Verdana"/>
                </a:rPr>
                <a:t>Triviant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Economie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cc99"/>
                  </a:solidFill>
                  <a:latin typeface="Verdana"/>
                </a:rPr>
                <a:t>Triviant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Economie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cc99"/>
                  </a:solidFill>
                  <a:latin typeface="Verdana"/>
                </a:rPr>
                <a:t>Triviant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Economie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cc99"/>
                  </a:solidFill>
                  <a:latin typeface="Verdana"/>
                </a:rPr>
                <a:t>Triviant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Economie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rot="19416000">
              <a:off x="4679280" y="5449680"/>
              <a:ext cx="3735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576360"/>
                  <a:tab algn="l" pos="1152360"/>
                  <a:tab algn="l" pos="1728720"/>
                  <a:tab algn="l" pos="2305080"/>
                  <a:tab algn="l" pos="2881440"/>
                  <a:tab algn="l" pos="3457440"/>
                  <a:tab algn="l" pos="4033800"/>
                  <a:tab algn="l" pos="4610160"/>
                  <a:tab algn="l" pos="5186520"/>
                  <a:tab algn="l" pos="5762520"/>
                  <a:tab algn="l" pos="6338880"/>
                  <a:tab algn="l" pos="6915240"/>
                  <a:tab algn="l" pos="7491240"/>
                  <a:tab algn="l" pos="8067600"/>
                  <a:tab algn="l" pos="8643960"/>
                  <a:tab algn="l" pos="9220320"/>
                  <a:tab algn="l" pos="9796320"/>
                  <a:tab algn="l" pos="10372680"/>
                  <a:tab algn="l" pos="10949040"/>
                </a:tabLst>
              </a:pPr>
              <a:r>
                <a:rPr b="0" lang="nl-NL" sz="600" spc="-1" strike="noStrike">
                  <a:solidFill>
                    <a:srgbClr val="00cc99"/>
                  </a:solidFill>
                  <a:latin typeface="Verdana"/>
                </a:rPr>
                <a:t>ant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Economie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cc99"/>
                  </a:solidFill>
                  <a:latin typeface="Verdana"/>
                </a:rPr>
                <a:t>Triviant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Economie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cc99"/>
                  </a:solidFill>
                  <a:latin typeface="Verdana"/>
                </a:rPr>
                <a:t>Triviant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Economie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cc99"/>
                  </a:solidFill>
                  <a:latin typeface="Verdana"/>
                </a:rPr>
                <a:t>Triviant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Economie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cc99"/>
                  </a:solidFill>
                  <a:latin typeface="Verdana"/>
                </a:rPr>
                <a:t>Triviant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Economie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cc99"/>
                  </a:solidFill>
                  <a:latin typeface="Verdana"/>
                </a:rPr>
                <a:t>Tri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19416000">
              <a:off x="5890320" y="5894640"/>
              <a:ext cx="243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576360"/>
                  <a:tab algn="l" pos="1152360"/>
                  <a:tab algn="l" pos="1728720"/>
                  <a:tab algn="l" pos="2305080"/>
                  <a:tab algn="l" pos="2881440"/>
                  <a:tab algn="l" pos="3457440"/>
                  <a:tab algn="l" pos="4033800"/>
                  <a:tab algn="l" pos="4610160"/>
                  <a:tab algn="l" pos="5186520"/>
                  <a:tab algn="l" pos="5762520"/>
                  <a:tab algn="l" pos="6338880"/>
                  <a:tab algn="l" pos="6915240"/>
                  <a:tab algn="l" pos="7491240"/>
                  <a:tab algn="l" pos="8067600"/>
                  <a:tab algn="l" pos="8643960"/>
                  <a:tab algn="l" pos="9220320"/>
                  <a:tab algn="l" pos="9796320"/>
                  <a:tab algn="l" pos="10372680"/>
                  <a:tab algn="l" pos="10949040"/>
                </a:tabLst>
              </a:pP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mie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cc99"/>
                  </a:solidFill>
                  <a:latin typeface="Verdana"/>
                </a:rPr>
                <a:t>Triviant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Economie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cc99"/>
                  </a:solidFill>
                  <a:latin typeface="Verdana"/>
                </a:rPr>
                <a:t>Triviant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Economie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cc99"/>
                  </a:solidFill>
                  <a:latin typeface="Verdana"/>
                </a:rPr>
                <a:t>Triviant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Economie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9416000">
              <a:off x="6988320" y="6278040"/>
              <a:ext cx="1315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576360"/>
                  <a:tab algn="l" pos="1152360"/>
                  <a:tab algn="l" pos="1728720"/>
                  <a:tab algn="l" pos="2305080"/>
                  <a:tab algn="l" pos="2881440"/>
                  <a:tab algn="l" pos="3457440"/>
                  <a:tab algn="l" pos="4033800"/>
                  <a:tab algn="l" pos="4610160"/>
                  <a:tab algn="l" pos="5186520"/>
                  <a:tab algn="l" pos="5762520"/>
                  <a:tab algn="l" pos="6338880"/>
                  <a:tab algn="l" pos="6915240"/>
                  <a:tab algn="l" pos="7491240"/>
                  <a:tab algn="l" pos="8067600"/>
                  <a:tab algn="l" pos="8643960"/>
                  <a:tab algn="l" pos="9220320"/>
                  <a:tab algn="l" pos="9796320"/>
                  <a:tab algn="l" pos="10372680"/>
                  <a:tab algn="l" pos="10949040"/>
                </a:tabLst>
              </a:pPr>
              <a:r>
                <a:rPr b="0" lang="nl-NL" sz="600" spc="-1" strike="noStrike">
                  <a:solidFill>
                    <a:srgbClr val="00cc99"/>
                  </a:solidFill>
                  <a:latin typeface="Verdana"/>
                </a:rPr>
                <a:t>Triviant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Economie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cc99"/>
                  </a:solidFill>
                  <a:latin typeface="Verdana"/>
                </a:rPr>
                <a:t>Triviant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 </a:t>
              </a:r>
              <a:r>
                <a:rPr b="0" lang="nl-NL" sz="600" spc="-1" strike="noStrike">
                  <a:solidFill>
                    <a:srgbClr val="000000"/>
                  </a:solidFill>
                  <a:latin typeface="Verdana"/>
                </a:rPr>
                <a:t>• </a:t>
              </a:r>
              <a:r>
                <a:rPr b="0" lang="nl-NL" sz="600" spc="-1" strike="noStrike">
                  <a:solidFill>
                    <a:srgbClr val="0099ff"/>
                  </a:solidFill>
                  <a:latin typeface="Verdana"/>
                </a:rPr>
                <a:t>Econ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0" y="295200"/>
            <a:ext cx="1603440" cy="2067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4680" bIns="4680" anchor="ctr">
            <a:noAutofit/>
          </a:bodyPr>
          <a:p>
            <a:pPr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1120" y="492120"/>
            <a:ext cx="189000" cy="196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1120" y="885960"/>
            <a:ext cx="189000" cy="1965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1120" y="1279440"/>
            <a:ext cx="189000" cy="19692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1120" y="1673280"/>
            <a:ext cx="189000" cy="195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533520"/>
            <a:ext cx="108612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4680" bIns="4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Collectieve s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838080"/>
            <a:ext cx="932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4680" bIns="4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International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betrekking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95280"/>
            <a:ext cx="855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4680" bIns="4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Arbeidsmark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676520"/>
            <a:ext cx="54288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4680" bIns="4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Overig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 rot="10800000">
            <a:off x="8302680" y="4495680"/>
            <a:ext cx="1603440" cy="2092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4680" bIns="4680" anchor="ctr">
            <a:noAutofit/>
          </a:bodyPr>
          <a:p>
            <a:pPr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 rot="10800000">
            <a:off x="9570600" y="4967640"/>
            <a:ext cx="189000" cy="196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4320" bIns="4320" anchor="ctr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 rot="10800000">
            <a:off x="9570600" y="5361480"/>
            <a:ext cx="189000" cy="196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4320" bIns="4320" anchor="ctr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 rot="10800000">
            <a:off x="9570600" y="5756400"/>
            <a:ext cx="189000" cy="19656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4320" bIns="4320" anchor="ctr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 rot="10800000">
            <a:off x="9570600" y="6151680"/>
            <a:ext cx="189000" cy="195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4320" bIns="4320" anchor="ctr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 rot="10800000">
            <a:off x="8458200" y="4989600"/>
            <a:ext cx="108576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4680" bIns="468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Collectieve sec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 rot="10800000">
            <a:off x="8620200" y="5280120"/>
            <a:ext cx="9316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4680" bIns="468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International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betrekking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 rot="10800000">
            <a:off x="8686440" y="5748840"/>
            <a:ext cx="855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4680" bIns="468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Arbeidsmark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 rot="10800000">
            <a:off x="8991720" y="6129720"/>
            <a:ext cx="5428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4680" bIns="468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Overig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0920" y="312408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90920" y="365760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48320" y="990720"/>
            <a:ext cx="0" cy="480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48320" y="961920"/>
            <a:ext cx="685800" cy="722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648320" y="2362320"/>
            <a:ext cx="6858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48320" y="1676520"/>
            <a:ext cx="685800" cy="68580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648320" y="3657600"/>
            <a:ext cx="68580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48320" y="4419720"/>
            <a:ext cx="685800" cy="674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48320" y="5095800"/>
            <a:ext cx="685800" cy="722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5400000">
            <a:off x="5337720" y="3044160"/>
            <a:ext cx="685800" cy="69372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6032880" y="3044160"/>
            <a:ext cx="685800" cy="693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6733080" y="3044160"/>
            <a:ext cx="685800" cy="693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5400000">
            <a:off x="2565720" y="3044160"/>
            <a:ext cx="685800" cy="69372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5400000">
            <a:off x="3261240" y="3044160"/>
            <a:ext cx="685800" cy="693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5400000">
            <a:off x="3956400" y="3044160"/>
            <a:ext cx="685800" cy="693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48320" y="3048120"/>
            <a:ext cx="685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11720" y="311040"/>
            <a:ext cx="1368360" cy="685800"/>
          </a:xfrm>
          <a:custGeom>
            <a:avLst/>
            <a:gdLst>
              <a:gd name="textAreaLeft" fmla="*/ 300960 w 1368360"/>
              <a:gd name="textAreaRight" fmla="*/ 1067400 w 1368360"/>
              <a:gd name="textAreaTop" fmla="*/ 150840 h 685800"/>
              <a:gd name="textAreaBottom" fmla="*/ 5349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1582920" y="3045960"/>
            <a:ext cx="1368360" cy="685800"/>
          </a:xfrm>
          <a:custGeom>
            <a:avLst/>
            <a:gdLst>
              <a:gd name="textAreaLeft" fmla="*/ 300960 w 1368360"/>
              <a:gd name="textAreaRight" fmla="*/ 1067400 w 1368360"/>
              <a:gd name="textAreaTop" fmla="*/ 150840 h 685800"/>
              <a:gd name="textAreaBottom" fmla="*/ 5349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 rot="5400000">
            <a:off x="7030440" y="3045960"/>
            <a:ext cx="1368360" cy="685800"/>
          </a:xfrm>
          <a:custGeom>
            <a:avLst/>
            <a:gdLst>
              <a:gd name="textAreaLeft" fmla="*/ 300960 w 1368360"/>
              <a:gd name="textAreaRight" fmla="*/ 1067400 w 1368360"/>
              <a:gd name="textAreaTop" fmla="*/ 150840 h 685800"/>
              <a:gd name="textAreaBottom" fmla="*/ 5349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314960" y="5771520"/>
            <a:ext cx="1368360" cy="685800"/>
          </a:xfrm>
          <a:custGeom>
            <a:avLst/>
            <a:gdLst>
              <a:gd name="textAreaLeft" fmla="*/ 300960 w 1368360"/>
              <a:gd name="textAreaRight" fmla="*/ 1067400 w 1368360"/>
              <a:gd name="textAreaTop" fmla="*/ 150840 h 685800"/>
              <a:gd name="textAreaBottom" fmla="*/ 5349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1981080"/>
            <a:ext cx="189000" cy="1954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0640" y="19242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Trivi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 rot="10800000">
            <a:off x="9553680" y="4637520"/>
            <a:ext cx="188640" cy="1969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4320" bIns="4320" anchor="ctr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8751600" y="458856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Trivi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05320" y="114300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924200" y="312840"/>
            <a:ext cx="2724120" cy="2732040"/>
            <a:chOff x="1924200" y="312840"/>
            <a:chExt cx="2724120" cy="2732040"/>
          </a:xfrm>
        </p:grpSpPr>
        <p:sp>
          <p:nvSpPr>
            <p:cNvPr id="101" name=""/>
            <p:cNvSpPr/>
            <p:nvPr/>
          </p:nvSpPr>
          <p:spPr>
            <a:xfrm>
              <a:off x="3489480" y="312840"/>
              <a:ext cx="1158840" cy="1287360"/>
            </a:xfrm>
            <a:custGeom>
              <a:avLst/>
              <a:gdLst/>
              <a:ahLst/>
              <a:rect l="l" t="t" r="r" b="b"/>
              <a:pathLst>
                <a:path w="730" h="811">
                  <a:moveTo>
                    <a:pt x="519" y="0"/>
                  </a:moveTo>
                  <a:lnTo>
                    <a:pt x="730" y="427"/>
                  </a:lnTo>
                  <a:lnTo>
                    <a:pt x="346" y="811"/>
                  </a:lnTo>
                  <a:lnTo>
                    <a:pt x="0" y="521"/>
                  </a:lnTo>
                  <a:lnTo>
                    <a:pt x="519" y="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727360" y="1143000"/>
              <a:ext cx="1309680" cy="1197000"/>
            </a:xfrm>
            <a:custGeom>
              <a:avLst/>
              <a:gdLst/>
              <a:ahLst/>
              <a:rect l="l" t="t" r="r" b="b"/>
              <a:pathLst>
                <a:path w="825" h="754">
                  <a:moveTo>
                    <a:pt x="0" y="478"/>
                  </a:moveTo>
                  <a:lnTo>
                    <a:pt x="480" y="0"/>
                  </a:lnTo>
                  <a:lnTo>
                    <a:pt x="825" y="291"/>
                  </a:lnTo>
                  <a:lnTo>
                    <a:pt x="363" y="754"/>
                  </a:lnTo>
                  <a:lnTo>
                    <a:pt x="0" y="478"/>
                  </a:lnTo>
                  <a:close/>
                </a:path>
              </a:pathLst>
            </a:custGeom>
            <a:solidFill>
              <a:srgbClr val="00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924200" y="1898640"/>
              <a:ext cx="1377720" cy="1146240"/>
            </a:xfrm>
            <a:custGeom>
              <a:avLst/>
              <a:gdLst/>
              <a:ahLst/>
              <a:rect l="l" t="t" r="r" b="b"/>
              <a:pathLst>
                <a:path w="868" h="722">
                  <a:moveTo>
                    <a:pt x="506" y="0"/>
                  </a:moveTo>
                  <a:lnTo>
                    <a:pt x="0" y="510"/>
                  </a:lnTo>
                  <a:lnTo>
                    <a:pt x="434" y="722"/>
                  </a:lnTo>
                  <a:lnTo>
                    <a:pt x="868" y="278"/>
                  </a:lnTo>
                  <a:lnTo>
                    <a:pt x="506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6767640" y="1895400"/>
            <a:ext cx="1288800" cy="1152720"/>
          </a:xfrm>
          <a:custGeom>
            <a:avLst/>
            <a:gdLst/>
            <a:ahLst/>
            <a:rect l="l" t="t" r="r" b="b"/>
            <a:pathLst>
              <a:path w="812" h="726">
                <a:moveTo>
                  <a:pt x="812" y="510"/>
                </a:moveTo>
                <a:lnTo>
                  <a:pt x="383" y="726"/>
                </a:lnTo>
                <a:lnTo>
                  <a:pt x="0" y="343"/>
                </a:lnTo>
                <a:lnTo>
                  <a:pt x="292" y="0"/>
                </a:lnTo>
                <a:lnTo>
                  <a:pt x="812" y="51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5426400">
            <a:off x="5975640" y="1184760"/>
            <a:ext cx="1309680" cy="1197000"/>
          </a:xfrm>
          <a:custGeom>
            <a:avLst/>
            <a:gdLst/>
            <a:ahLst/>
            <a:rect l="l" t="t" r="r" b="b"/>
            <a:pathLst>
              <a:path w="825" h="754">
                <a:moveTo>
                  <a:pt x="0" y="478"/>
                </a:moveTo>
                <a:lnTo>
                  <a:pt x="480" y="0"/>
                </a:lnTo>
                <a:lnTo>
                  <a:pt x="825" y="291"/>
                </a:lnTo>
                <a:lnTo>
                  <a:pt x="363" y="754"/>
                </a:lnTo>
                <a:lnTo>
                  <a:pt x="0" y="478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4120" y="314280"/>
            <a:ext cx="1141200" cy="1384200"/>
          </a:xfrm>
          <a:custGeom>
            <a:avLst/>
            <a:gdLst/>
            <a:ahLst/>
            <a:rect l="l" t="t" r="r" b="b"/>
            <a:pathLst>
              <a:path w="719" h="872">
                <a:moveTo>
                  <a:pt x="719" y="515"/>
                </a:moveTo>
                <a:lnTo>
                  <a:pt x="212" y="0"/>
                </a:lnTo>
                <a:lnTo>
                  <a:pt x="0" y="432"/>
                </a:lnTo>
                <a:lnTo>
                  <a:pt x="440" y="872"/>
                </a:lnTo>
                <a:lnTo>
                  <a:pt x="719" y="515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7000" y="5160960"/>
            <a:ext cx="1159200" cy="1297080"/>
          </a:xfrm>
          <a:custGeom>
            <a:avLst/>
            <a:gdLst/>
            <a:ahLst/>
            <a:rect l="l" t="t" r="r" b="b"/>
            <a:pathLst>
              <a:path w="730" h="817">
                <a:moveTo>
                  <a:pt x="217" y="817"/>
                </a:moveTo>
                <a:lnTo>
                  <a:pt x="0" y="386"/>
                </a:lnTo>
                <a:lnTo>
                  <a:pt x="383" y="0"/>
                </a:lnTo>
                <a:lnTo>
                  <a:pt x="730" y="289"/>
                </a:lnTo>
                <a:lnTo>
                  <a:pt x="217" y="81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0788600">
            <a:off x="5945040" y="4420800"/>
            <a:ext cx="1309680" cy="1197000"/>
          </a:xfrm>
          <a:custGeom>
            <a:avLst/>
            <a:gdLst/>
            <a:ahLst/>
            <a:rect l="l" t="t" r="r" b="b"/>
            <a:pathLst>
              <a:path w="825" h="754">
                <a:moveTo>
                  <a:pt x="0" y="478"/>
                </a:moveTo>
                <a:lnTo>
                  <a:pt x="480" y="0"/>
                </a:lnTo>
                <a:lnTo>
                  <a:pt x="825" y="291"/>
                </a:lnTo>
                <a:lnTo>
                  <a:pt x="363" y="754"/>
                </a:lnTo>
                <a:lnTo>
                  <a:pt x="0" y="478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680160" y="3732120"/>
            <a:ext cx="1378080" cy="1128960"/>
          </a:xfrm>
          <a:custGeom>
            <a:avLst/>
            <a:gdLst/>
            <a:ahLst/>
            <a:rect l="l" t="t" r="r" b="b"/>
            <a:pathLst>
              <a:path w="868" h="711">
                <a:moveTo>
                  <a:pt x="360" y="711"/>
                </a:moveTo>
                <a:lnTo>
                  <a:pt x="868" y="211"/>
                </a:lnTo>
                <a:lnTo>
                  <a:pt x="436" y="0"/>
                </a:lnTo>
                <a:lnTo>
                  <a:pt x="0" y="433"/>
                </a:lnTo>
                <a:lnTo>
                  <a:pt x="360" y="711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19160" y="3733920"/>
            <a:ext cx="1287720" cy="1160280"/>
          </a:xfrm>
          <a:custGeom>
            <a:avLst/>
            <a:gdLst/>
            <a:ahLst/>
            <a:rect l="l" t="t" r="r" b="b"/>
            <a:pathLst>
              <a:path w="811" h="731">
                <a:moveTo>
                  <a:pt x="0" y="215"/>
                </a:moveTo>
                <a:lnTo>
                  <a:pt x="431" y="0"/>
                </a:lnTo>
                <a:lnTo>
                  <a:pt x="811" y="385"/>
                </a:lnTo>
                <a:lnTo>
                  <a:pt x="521" y="731"/>
                </a:lnTo>
                <a:lnTo>
                  <a:pt x="0" y="215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198800">
            <a:off x="2693160" y="4401000"/>
            <a:ext cx="1309680" cy="1197000"/>
          </a:xfrm>
          <a:custGeom>
            <a:avLst/>
            <a:gdLst/>
            <a:ahLst/>
            <a:rect l="l" t="t" r="r" b="b"/>
            <a:pathLst>
              <a:path w="825" h="754">
                <a:moveTo>
                  <a:pt x="0" y="478"/>
                </a:moveTo>
                <a:lnTo>
                  <a:pt x="480" y="0"/>
                </a:lnTo>
                <a:lnTo>
                  <a:pt x="825" y="291"/>
                </a:lnTo>
                <a:lnTo>
                  <a:pt x="363" y="754"/>
                </a:lnTo>
                <a:lnTo>
                  <a:pt x="0" y="47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05320" y="5081760"/>
            <a:ext cx="1147680" cy="1376280"/>
          </a:xfrm>
          <a:custGeom>
            <a:avLst/>
            <a:gdLst/>
            <a:ahLst/>
            <a:rect l="l" t="t" r="r" b="b"/>
            <a:pathLst>
              <a:path w="723" h="867">
                <a:moveTo>
                  <a:pt x="0" y="362"/>
                </a:moveTo>
                <a:lnTo>
                  <a:pt x="511" y="867"/>
                </a:lnTo>
                <a:lnTo>
                  <a:pt x="723" y="434"/>
                </a:lnTo>
                <a:lnTo>
                  <a:pt x="278" y="0"/>
                </a:lnTo>
                <a:lnTo>
                  <a:pt x="0" y="36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 rot="16200000">
            <a:off x="-1309320" y="4357440"/>
            <a:ext cx="423864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50000">
                      <a:srgbClr val="005cbf"/>
                    </a:gs>
                    <a:gs pos="100000">
                      <a:srgbClr val="03d4a8"/>
                    </a:gs>
                  </a:gsLst>
                  <a:lin ang="5400000"/>
                </a:gradFill>
                <a:latin typeface="Arial Black"/>
              </a:rPr>
              <a:t>Economisch Trivia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50000">
                    <a:srgbClr val="005cbf"/>
                  </a:gs>
                  <a:gs pos="100000">
                    <a:srgbClr val="03d4a8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14" name=""/>
          <p:cNvSpPr txBox="1"/>
          <p:nvPr/>
        </p:nvSpPr>
        <p:spPr>
          <a:xfrm rot="5400000">
            <a:off x="6919920" y="2071440"/>
            <a:ext cx="423864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50000">
                      <a:srgbClr val="005cbf"/>
                    </a:gs>
                    <a:gs pos="100000">
                      <a:srgbClr val="03d4a8"/>
                    </a:gs>
                  </a:gsLst>
                  <a:lin ang="5400000"/>
                </a:gradFill>
                <a:latin typeface="Arial Black"/>
              </a:rPr>
              <a:t>Economisch Trivia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50000">
                    <a:srgbClr val="005cbf"/>
                  </a:gs>
                  <a:gs pos="100000">
                    <a:srgbClr val="03d4a8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15" name="Dice" descr="Dice"/>
          <p:cNvPicPr/>
          <p:nvPr/>
        </p:nvPicPr>
        <p:blipFill>
          <a:blip r:embed="rId7"/>
          <a:stretch/>
        </p:blipFill>
        <p:spPr>
          <a:xfrm>
            <a:off x="4686480" y="30765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2T12:35:39Z</dcterms:created>
  <dc:creator>blm</dc:creator>
  <dc:description/>
  <dc:language>en-US</dc:language>
  <cp:lastModifiedBy>blm</cp:lastModifiedBy>
  <dcterms:modified xsi:type="dcterms:W3CDTF">2007-05-25T14:01:48Z</dcterms:modified>
  <cp:revision>8</cp:revision>
  <dc:subject/>
  <dc:title>PowerPoint-presentatie</dc:title>
</cp:coreProperties>
</file>