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B5B-04DC-4C2F-B5DC-A4C39BD1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8EA-635E-4979-8AA6-C8B13D84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FF7-B5CB-4488-8DA1-60D4220E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E95-567C-464F-BF66-A5DEDF2A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5D2-09CB-4027-87B0-4DD5A06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258-690C-4A07-BFD4-2C1463B8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EAC-8F78-4E34-ABA0-36093F06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7BA-DB57-4D64-A116-F7691D24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724-16E8-4167-B761-86D8B906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284-E74F-4F06-B568-FD43D4C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9B7-08CA-4823-AEB9-584CAF6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B42-FEE1-4D97-87C1-FF833BD9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AAB-8358-4997-A410-1464923B1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5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5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5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5000" y="538164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5410080"/>
            <a:ext cx="81612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5410080"/>
            <a:ext cx="81576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3360" y="541008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5410080"/>
            <a:ext cx="81612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2760" y="5410080"/>
            <a:ext cx="81288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100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9280" y="5410080"/>
            <a:ext cx="81288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5410080"/>
            <a:ext cx="8157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4800600"/>
            <a:ext cx="81756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3962520"/>
            <a:ext cx="817560" cy="815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39080" y="312408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2286000"/>
            <a:ext cx="8175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1447920"/>
            <a:ext cx="817560" cy="81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39080" y="609480"/>
            <a:ext cx="81756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15228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52280"/>
            <a:ext cx="81612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78560" y="152280"/>
            <a:ext cx="81288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1522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2040" y="152280"/>
            <a:ext cx="81288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52280"/>
            <a:ext cx="8157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2640" y="152280"/>
            <a:ext cx="81756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522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5680" y="533520"/>
            <a:ext cx="812880" cy="815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219320"/>
            <a:ext cx="816120" cy="815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057400"/>
            <a:ext cx="81612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733920"/>
            <a:ext cx="816120" cy="815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267080"/>
            <a:ext cx="8157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6040" y="4267080"/>
            <a:ext cx="81288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2670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426708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4267080"/>
            <a:ext cx="81612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4267080"/>
            <a:ext cx="81756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4267080"/>
            <a:ext cx="81576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89720" y="3809880"/>
            <a:ext cx="8175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89720" y="2971800"/>
            <a:ext cx="8175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89720" y="2133720"/>
            <a:ext cx="817560" cy="81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1523880"/>
            <a:ext cx="81756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1523880"/>
            <a:ext cx="81576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1523880"/>
            <a:ext cx="8175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523880"/>
            <a:ext cx="81612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1523880"/>
            <a:ext cx="81612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2209680"/>
            <a:ext cx="817560" cy="816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048120"/>
            <a:ext cx="817560" cy="8157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352680"/>
            <a:ext cx="81612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7560" y="2743200"/>
            <a:ext cx="1801800" cy="138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11680" y="3352680"/>
            <a:ext cx="812880" cy="816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57920" y="5415120"/>
            <a:ext cx="804600" cy="804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029200" y="5638680"/>
            <a:ext cx="533520" cy="38124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192"/>
                </a:moveTo>
                <a:lnTo>
                  <a:pt x="192" y="96"/>
                </a:lnTo>
                <a:lnTo>
                  <a:pt x="240" y="192"/>
                </a:lnTo>
                <a:lnTo>
                  <a:pt x="288" y="144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844120" y="1452600"/>
            <a:ext cx="804600" cy="804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71720" y="2900520"/>
            <a:ext cx="804600" cy="80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1181160" y="3052080"/>
            <a:ext cx="533520" cy="37620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192"/>
                </a:moveTo>
                <a:lnTo>
                  <a:pt x="192" y="96"/>
                </a:lnTo>
                <a:lnTo>
                  <a:pt x="240" y="192"/>
                </a:lnTo>
                <a:lnTo>
                  <a:pt x="288" y="144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8858160" y="4043520"/>
            <a:ext cx="798480" cy="623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986200" y="3429000"/>
            <a:ext cx="796680" cy="6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486480" y="223920"/>
            <a:ext cx="797040" cy="6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128600" y="1309680"/>
            <a:ext cx="676440" cy="63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7456320" y="3900600"/>
            <a:ext cx="676440" cy="630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4457880" y="1638360"/>
            <a:ext cx="534960" cy="603360"/>
            <a:chOff x="4457880" y="1638360"/>
            <a:chExt cx="534960" cy="603360"/>
          </a:xfrm>
        </p:grpSpPr>
        <p:pic>
          <p:nvPicPr>
            <p:cNvPr id="101" name="" descr=""/>
            <p:cNvPicPr/>
            <p:nvPr/>
          </p:nvPicPr>
          <p:blipFill>
            <a:blip r:embed="rId10"/>
            <a:srcRect l="0" t="0" r="12856" b="0"/>
            <a:stretch/>
          </p:blipFill>
          <p:spPr>
            <a:xfrm>
              <a:off x="4457880" y="1638360"/>
              <a:ext cx="53496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1"/>
            <a:stretch/>
          </p:blipFill>
          <p:spPr>
            <a:xfrm>
              <a:off x="4540320" y="2002320"/>
              <a:ext cx="16416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4827960" y="1678680"/>
              <a:ext cx="16452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"/>
          <p:cNvGrpSpPr/>
          <p:nvPr/>
        </p:nvGrpSpPr>
        <p:grpSpPr>
          <a:xfrm>
            <a:off x="3378240" y="5524560"/>
            <a:ext cx="533520" cy="603360"/>
            <a:chOff x="3378240" y="5524560"/>
            <a:chExt cx="533520" cy="603360"/>
          </a:xfrm>
        </p:grpSpPr>
        <p:pic>
          <p:nvPicPr>
            <p:cNvPr id="105" name="" descr=""/>
            <p:cNvPicPr/>
            <p:nvPr/>
          </p:nvPicPr>
          <p:blipFill>
            <a:blip r:embed="rId13"/>
            <a:srcRect l="0" t="0" r="12856" b="0"/>
            <a:stretch/>
          </p:blipFill>
          <p:spPr>
            <a:xfrm>
              <a:off x="3378240" y="5524560"/>
              <a:ext cx="5335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4"/>
            <a:stretch/>
          </p:blipFill>
          <p:spPr>
            <a:xfrm>
              <a:off x="3460320" y="5888520"/>
              <a:ext cx="1638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5"/>
            <a:stretch/>
          </p:blipFill>
          <p:spPr>
            <a:xfrm>
              <a:off x="3747600" y="5564880"/>
              <a:ext cx="16416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5132520" y="4381560"/>
            <a:ext cx="531720" cy="603360"/>
            <a:chOff x="5132520" y="4381560"/>
            <a:chExt cx="531720" cy="603360"/>
          </a:xfrm>
        </p:grpSpPr>
        <p:pic>
          <p:nvPicPr>
            <p:cNvPr id="109" name="" descr=""/>
            <p:cNvPicPr/>
            <p:nvPr/>
          </p:nvPicPr>
          <p:blipFill>
            <a:blip r:embed="rId16"/>
            <a:srcRect l="0" t="0" r="12856" b="0"/>
            <a:stretch/>
          </p:blipFill>
          <p:spPr>
            <a:xfrm>
              <a:off x="5132520" y="438156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7"/>
            <a:stretch/>
          </p:blipFill>
          <p:spPr>
            <a:xfrm>
              <a:off x="5214240" y="4745520"/>
              <a:ext cx="1634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8"/>
            <a:stretch/>
          </p:blipFill>
          <p:spPr>
            <a:xfrm>
              <a:off x="5500440" y="4421880"/>
              <a:ext cx="1634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4902120" y="266760"/>
            <a:ext cx="531720" cy="603360"/>
            <a:chOff x="4902120" y="266760"/>
            <a:chExt cx="531720" cy="603360"/>
          </a:xfrm>
        </p:grpSpPr>
        <p:pic>
          <p:nvPicPr>
            <p:cNvPr id="113" name="" descr=""/>
            <p:cNvPicPr/>
            <p:nvPr/>
          </p:nvPicPr>
          <p:blipFill>
            <a:blip r:embed="rId19"/>
            <a:srcRect l="0" t="0" r="12856" b="0"/>
            <a:stretch/>
          </p:blipFill>
          <p:spPr>
            <a:xfrm>
              <a:off x="4902120" y="266760"/>
              <a:ext cx="53172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0"/>
            <a:stretch/>
          </p:blipFill>
          <p:spPr>
            <a:xfrm>
              <a:off x="4983840" y="630720"/>
              <a:ext cx="16344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1"/>
            <a:stretch/>
          </p:blipFill>
          <p:spPr>
            <a:xfrm>
              <a:off x="5270040" y="307080"/>
              <a:ext cx="163440" cy="16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8940960" y="4902120"/>
            <a:ext cx="533160" cy="603360"/>
            <a:chOff x="8940960" y="4902120"/>
            <a:chExt cx="533160" cy="603360"/>
          </a:xfrm>
        </p:grpSpPr>
        <p:pic>
          <p:nvPicPr>
            <p:cNvPr id="117" name="" descr=""/>
            <p:cNvPicPr/>
            <p:nvPr/>
          </p:nvPicPr>
          <p:blipFill>
            <a:blip r:embed="rId22"/>
            <a:srcRect l="0" t="0" r="12856" b="0"/>
            <a:stretch/>
          </p:blipFill>
          <p:spPr>
            <a:xfrm>
              <a:off x="8940960" y="4902120"/>
              <a:ext cx="53316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3"/>
            <a:stretch/>
          </p:blipFill>
          <p:spPr>
            <a:xfrm>
              <a:off x="9023040" y="5266080"/>
              <a:ext cx="163800" cy="16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4"/>
            <a:stretch/>
          </p:blipFill>
          <p:spPr>
            <a:xfrm>
              <a:off x="9309960" y="4942440"/>
              <a:ext cx="163800" cy="16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101520" y="5892840"/>
            <a:ext cx="816120" cy="815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5"/>
          <a:srcRect l="8334" t="18331" r="8334" b="18331"/>
          <a:stretch/>
        </p:blipFill>
        <p:spPr>
          <a:xfrm>
            <a:off x="208080" y="6091200"/>
            <a:ext cx="610920" cy="463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06760" y="1523880"/>
            <a:ext cx="812880" cy="816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6840" y="5410080"/>
            <a:ext cx="817560" cy="8161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 rot="16212000">
            <a:off x="-1773000" y="2607840"/>
            <a:ext cx="4228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Goudy Stout"/>
              </a:rPr>
              <a:t>Geldra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125" name=""/>
          <p:cNvSpPr/>
          <p:nvPr/>
        </p:nvSpPr>
        <p:spPr>
          <a:xfrm>
            <a:off x="5334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962920" y="1714680"/>
            <a:ext cx="532080" cy="38088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192"/>
                </a:moveTo>
                <a:lnTo>
                  <a:pt x="192" y="96"/>
                </a:lnTo>
                <a:lnTo>
                  <a:pt x="240" y="192"/>
                </a:lnTo>
                <a:lnTo>
                  <a:pt x="288" y="144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69280" y="1486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560" y="3352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9:59:49Z</dcterms:created>
  <dc:creator>Bloemers, P.A.</dc:creator>
  <dc:description/>
  <dc:language>en-US</dc:language>
  <cp:lastModifiedBy>Blm</cp:lastModifiedBy>
  <dcterms:modified xsi:type="dcterms:W3CDTF">2009-03-11T12:57:09Z</dcterms:modified>
  <cp:revision>7</cp:revision>
  <dc:subject/>
  <dc:title>PowerPoint-presentatie</dc:title>
</cp:coreProperties>
</file>